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2D1A-F24A-47F0-AAF2-F3BB97BEA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EE37-31DF-4599-9D24-1ABBBC465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EB6B-30C6-42B3-ABDE-5E0E40400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7A1F-161A-46E9-A781-E338CDB26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0FE7-DA33-4E39-AF6A-941C6BAAF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BE06-381B-4C50-8573-3DBD6F772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AFD6-EC00-4E76-BF78-A74A5320A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AD03-4843-48B8-9348-0175557C3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7A9E-B35B-429A-8175-F5412E15D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0E6C-8214-48BA-8CA8-D5E095D66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F7BE-F413-46B7-8FA4-615A043BF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C3D6-E654-4EF2-AAE6-EBF39BDAD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77B87-30FF-4F37-9182-59C80D4ECC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ultiple Intelligence Ideas for Proof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Logical Mathematical:  Generate proofs for given theorems.  Be ready to explai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Verbal Linguistic:  Write in paragraph form why the theorems are true.  Explain what we need to think about before using the theor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99"/>
                </a:solidFill>
                <a:latin typeface="Arial"/>
              </a:rPr>
              <a:t>Visual Spatial:  Use pictures to explain the theor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ultiple Intelligence Ideas for Proof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Musical:  Create a jingle or rap to sing the theorem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Kinesthetic:  Use Geometer Sketchpad or other computer software to discover the theor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Arial"/>
              </a:rPr>
              <a:t>Intrapersonal:  Write a journal entry for yourself explaining why the theorem is true, how they make sense, and a tip for remembering th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1T15:49:02Z</dcterms:created>
  <dc:creator>CABELL BOE</dc:creator>
  <dc:description/>
  <dc:language>en-US</dc:language>
  <cp:lastModifiedBy>CABELL BOE</cp:lastModifiedBy>
  <dcterms:modified xsi:type="dcterms:W3CDTF">2009-06-01T15:49:15Z</dcterms:modified>
  <cp:revision>1</cp:revision>
  <dc:subject/>
  <dc:title>Multiple Intelligence Ideas for Proofs!</dc:title>
</cp:coreProperties>
</file>